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44.png" ContentType="image/png"/>
  <Override PartName="/ppt/media/image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363-D29A-4B77-A594-72B43B3A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70D-8C74-4020-A0DC-84ACE105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613-5405-4DB2-A8E9-FA5BAFA8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521-C67F-43CF-A67B-8FDBA830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A97-1A29-4DC1-AEEC-5E13BE32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259-07B3-4AE6-AEE0-A32DBDEC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135-33F9-494A-9C85-CB5AF5CC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6150-4B10-4BAF-9C4C-9C99F83F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C78-B3F2-4F85-9D07-840C60C4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790-85C1-44DD-B1DA-89792384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2A7D-FB88-4F0F-81C1-C124E1E5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926-FF86-423A-AA09-CA2C619F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89B1-12FA-4F36-858B-75CD229FB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hyperlink" Target="http://www.skep.irk.ru/index.php-rd=5@arx=5.htm" TargetMode="External"/><Relationship Id="rId4" Type="http://schemas.openxmlformats.org/officeDocument/2006/relationships/hyperlink" Target="http://www.soccernews.ru/news/35064/print/" TargetMode="External"/><Relationship Id="rId5" Type="http://schemas.openxmlformats.org/officeDocument/2006/relationships/hyperlink" Target="http://www.vexve-valve.ru/catalogue/default.aspx?Type=c1" TargetMode="External"/><Relationship Id="rId6" Type="http://schemas.openxmlformats.org/officeDocument/2006/relationships/hyperlink" Target="http://www.lori.ru/catalogue/384?page=637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jpe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07960" y="1079640"/>
            <a:ext cx="5492880" cy="857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301920" y="2359080"/>
            <a:ext cx="4540320" cy="64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1335240" y="3594240"/>
            <a:ext cx="6553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" y="50760"/>
            <a:ext cx="88646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800000"/>
                </a:solidFill>
                <a:uFillTx/>
                <a:latin typeface="Times New Roman"/>
              </a:rPr>
              <a:t>Используемые материалы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6800" y="1544760"/>
            <a:ext cx="7991640" cy="5313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645156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skep.irk.ru/index.php-rd=5@arx=5.htm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5200" y="645156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1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601200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soccernews.ru/news/35064/print/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5200" y="601200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1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57388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vexve-valve.ru/catalogue/default.aspx?Type=c1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5200" y="557388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513396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lori.ru/catalogue/384?page=637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5200" y="513396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69440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99"/>
                </a:solidFill>
                <a:uFillTx/>
                <a:latin typeface="Times New Roman"/>
              </a:rPr>
              <a:t>www.karniziko.ru/sub/product/kruglie/d16/figaro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5200" y="469440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7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425592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99"/>
                </a:solidFill>
                <a:uFillTx/>
                <a:latin typeface="Times New Roman"/>
              </a:rPr>
              <a:t>www.ural-art-trade.com/test/imgviw.php?id=640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5200" y="425592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6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381636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99"/>
                </a:solidFill>
                <a:uFillTx/>
                <a:latin typeface="Times New Roman"/>
              </a:rPr>
              <a:t>www.ya-yo.ru/?poductID=15552@@brandID=4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200" y="381636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37644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99"/>
                </a:solidFill>
                <a:uFillTx/>
                <a:latin typeface="Times New Roman"/>
              </a:rPr>
              <a:t>www.gusmarket.ru/product_info.php?products_id=343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5200" y="337644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4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293832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99"/>
                </a:solidFill>
                <a:uFillTx/>
                <a:latin typeface="Times New Roman"/>
              </a:rPr>
              <a:t>www.school700fp.jimdo.com/sitemap.php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5200" y="293832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249876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99"/>
                </a:solidFill>
                <a:uFillTx/>
                <a:latin typeface="Times New Roman"/>
              </a:rPr>
              <a:t>www.janchyk.com/wallpaper/13227-cilindry.html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200" y="249876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05884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99"/>
                </a:solidFill>
                <a:uFillTx/>
                <a:latin typeface="Times New Roman"/>
              </a:rPr>
              <a:t>www.photosight.ru/photos/1572866/?from_member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5200" y="205884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620720"/>
            <a:ext cx="6897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Интерн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5200" y="1620720"/>
            <a:ext cx="8697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№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п/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8751960" cy="73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800000"/>
                </a:solidFill>
                <a:latin typeface="Comic Sans MS"/>
              </a:rPr>
              <a:t>Сколько</a:t>
            </a:r>
            <a:br>
              <a:rPr sz="4900"/>
            </a:br>
            <a:br>
              <a:rPr sz="4900"/>
            </a:br>
            <a:r>
              <a:rPr b="1" i="1" lang="en-US" sz="4900" spc="-1" strike="noStrike">
                <a:solidFill>
                  <a:srgbClr val="800000"/>
                </a:solidFill>
                <a:latin typeface="Comic Sans MS"/>
              </a:rPr>
              <a:t>превращений </a:t>
            </a:r>
            <a:br>
              <a:rPr sz="4900"/>
            </a:br>
            <a:br>
              <a:rPr sz="4900"/>
            </a:br>
            <a:r>
              <a:rPr b="1" i="1" lang="en-US" sz="4900" spc="-1" strike="noStrike">
                <a:solidFill>
                  <a:srgbClr val="800000"/>
                </a:solidFill>
                <a:latin typeface="Comic Sans MS"/>
              </a:rPr>
              <a:t>шара, конуса, цилиндра</a:t>
            </a:r>
            <a:br>
              <a:rPr sz="4900"/>
            </a:br>
            <a:br>
              <a:rPr sz="4900"/>
            </a:br>
            <a:r>
              <a:rPr b="1" i="1" lang="en-US" sz="4900" spc="-1" strike="noStrike">
                <a:solidFill>
                  <a:srgbClr val="800000"/>
                </a:solidFill>
                <a:latin typeface="Comic Sans MS"/>
              </a:rPr>
              <a:t>можно наблюдать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6840" y="130320"/>
            <a:ext cx="24145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" y="50400"/>
            <a:ext cx="8880480" cy="73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Times New Roman"/>
              </a:rPr>
              <a:t>Цель исследования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:</a:t>
            </a:r>
            <a:br>
              <a:rPr sz="4000"/>
            </a:br>
            <a:r>
              <a:rPr b="0" lang="en-US" sz="3100" spc="-1" strike="noStrike">
                <a:solidFill>
                  <a:srgbClr val="800000"/>
                </a:solidFill>
                <a:latin typeface="Times New Roman"/>
              </a:rPr>
              <a:t>Изучить разнообразие перевоплощений тел вращения.</a:t>
            </a:r>
            <a:br>
              <a:rPr sz="3100"/>
            </a:br>
            <a:br>
              <a:rPr sz="3100"/>
            </a:br>
            <a:br>
              <a:rPr sz="4000"/>
            </a:br>
            <a:r>
              <a:rPr b="1" lang="en-US" sz="4000" spc="-1" strike="noStrike" u="sng">
                <a:solidFill>
                  <a:srgbClr val="800000"/>
                </a:solidFill>
                <a:uFillTx/>
                <a:latin typeface="Times New Roman"/>
              </a:rPr>
              <a:t>План:</a:t>
            </a:r>
            <a:br>
              <a:rPr sz="4000"/>
            </a:br>
            <a:r>
              <a:rPr b="0" lang="en-US" sz="3100" spc="-1" strike="noStrike">
                <a:solidFill>
                  <a:srgbClr val="800000"/>
                </a:solidFill>
                <a:latin typeface="Times New Roman"/>
              </a:rPr>
              <a:t>1. Рассмотреть образы шара, конуса, цилиндра в различных сферах.</a:t>
            </a:r>
            <a:br>
              <a:rPr sz="3100"/>
            </a:br>
            <a:r>
              <a:rPr b="0" lang="en-US" sz="3100" spc="-1" strike="noStrike">
                <a:solidFill>
                  <a:srgbClr val="800000"/>
                </a:solidFill>
                <a:latin typeface="Times New Roman"/>
              </a:rPr>
              <a:t>2. Посчитать количество образов основных тел вращения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47120" y="20520"/>
            <a:ext cx="99036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8880" y="5033880"/>
            <a:ext cx="1843200" cy="1790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351400" y="-15840"/>
            <a:ext cx="824040" cy="78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5788080" y="5683320"/>
            <a:ext cx="1695240" cy="1641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834240" y="1822320"/>
            <a:ext cx="1536480" cy="1546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379600" y="1405080"/>
            <a:ext cx="1071720" cy="709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4662360" y="1668600"/>
            <a:ext cx="1525680" cy="149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2952720" y="6073920"/>
            <a:ext cx="14083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8440" y="55872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800000"/>
                </a:solidFill>
                <a:uFillTx/>
                <a:latin typeface="Times New Roman"/>
              </a:rPr>
              <a:t>Гипотеза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98440" y="2166840"/>
            <a:ext cx="85471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00"/>
                </a:solidFill>
                <a:latin typeface="Times New Roman"/>
              </a:rPr>
              <a:t>Количество образо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00"/>
                </a:solidFill>
                <a:latin typeface="Times New Roman"/>
              </a:rPr>
              <a:t>основных те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00"/>
                </a:solidFill>
                <a:latin typeface="Times New Roman"/>
              </a:rPr>
              <a:t>вращения конечн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0960" y="2286000"/>
            <a:ext cx="28908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" y="50760"/>
            <a:ext cx="88804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800000"/>
                </a:solidFill>
                <a:uFillTx/>
                <a:latin typeface="Times New Roman"/>
              </a:rPr>
              <a:t>Ход исследования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44760" y="1936800"/>
            <a:ext cx="4118040" cy="510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639960" y="1882800"/>
            <a:ext cx="1684440" cy="1355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397480" y="2846520"/>
            <a:ext cx="1292400" cy="1398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116760" y="5481720"/>
            <a:ext cx="1598400" cy="1376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2116080" y="4762440"/>
            <a:ext cx="1525680" cy="1376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5397480" y="4762440"/>
            <a:ext cx="1365120" cy="1376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1238400" y="2127240"/>
            <a:ext cx="1555560" cy="132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3873600" y="5640480"/>
            <a:ext cx="1228680" cy="1514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3470400" y="6286680"/>
            <a:ext cx="817560" cy="1101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2433600" y="2846520"/>
            <a:ext cx="118764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422440" y="528480"/>
            <a:ext cx="4076640" cy="5959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079960" y="444600"/>
            <a:ext cx="1206720" cy="942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311800" y="1639800"/>
            <a:ext cx="1378080" cy="1536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469880" y="1639800"/>
            <a:ext cx="2129040" cy="1557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311120" y="1004760"/>
            <a:ext cx="1219320" cy="1144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1397160" y="3882960"/>
            <a:ext cx="2244600" cy="1536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5311800" y="3882960"/>
            <a:ext cx="2128680" cy="150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6910560" y="4921200"/>
            <a:ext cx="1577880" cy="1058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3639960" y="5005440"/>
            <a:ext cx="1684440" cy="1450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3714840" y="2762280"/>
            <a:ext cx="1450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50960" y="358920"/>
            <a:ext cx="5769000" cy="5897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994120" y="285840"/>
            <a:ext cx="890640" cy="804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873760" y="3164040"/>
            <a:ext cx="1577880" cy="1536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470560" y="1163520"/>
            <a:ext cx="1611360" cy="1609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1639800" y="3089160"/>
            <a:ext cx="1525680" cy="1928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1957320" y="1247760"/>
            <a:ext cx="1621080" cy="1609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3798720" y="369720"/>
            <a:ext cx="1525680" cy="1609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4676760" y="4687920"/>
            <a:ext cx="1928880" cy="1609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2751120" y="4687920"/>
            <a:ext cx="17683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8440" y="260280"/>
            <a:ext cx="854712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00"/>
                </a:solidFill>
                <a:uFillTx/>
                <a:latin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93600" y="1163520"/>
            <a:ext cx="7378920" cy="6012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46080" y="4778280"/>
            <a:ext cx="231480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663300"/>
                </a:solidFill>
                <a:uFillTx/>
                <a:latin typeface="Times New Roman"/>
              </a:rPr>
              <a:t>Образы шар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промышлен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природ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строительств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нау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… </a:t>
            </a: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22600" y="4778280"/>
            <a:ext cx="231624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663300"/>
                </a:solidFill>
                <a:uFillTx/>
                <a:latin typeface="Times New Roman"/>
              </a:rPr>
              <a:t>Образы конус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промышлен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природ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строительств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нау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3300"/>
                </a:solidFill>
                <a:latin typeface="Times New Roman"/>
              </a:rPr>
              <a:t>… </a:t>
            </a:r>
            <a:r>
              <a:rPr b="0" lang="en-US" sz="19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9120" y="4778280"/>
            <a:ext cx="231480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663300"/>
                </a:solidFill>
                <a:uFillTx/>
                <a:latin typeface="Times New Roman"/>
              </a:rPr>
              <a:t>Образы цилиндр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промышлен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природ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строительств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нау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3300"/>
                </a:solidFill>
                <a:latin typeface="Times New Roman"/>
              </a:rPr>
              <a:t>… </a:t>
            </a:r>
            <a:r>
              <a:rPr b="0" lang="en-US" sz="19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8080" y="339840"/>
            <a:ext cx="84186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На основе исследований и приведенной выше таблицы можно сделать вывод:</a:t>
            </a:r>
            <a:br>
              <a:rPr sz="4000"/>
            </a:br>
            <a:r>
              <a:rPr b="0" i="1" lang="en-US" sz="4000" spc="-1" strike="noStrike" u="sng">
                <a:solidFill>
                  <a:srgbClr val="e17171"/>
                </a:solidFill>
                <a:uFillTx/>
                <a:latin typeface="Times New Roman"/>
              </a:rPr>
              <a:t>Количество образов основных </a:t>
            </a:r>
            <a:br>
              <a:rPr sz="4000"/>
            </a:br>
            <a:r>
              <a:rPr b="0" i="1" lang="en-US" sz="4000" spc="-1" strike="noStrike" u="sng">
                <a:solidFill>
                  <a:srgbClr val="e17171"/>
                </a:solidFill>
                <a:uFillTx/>
                <a:latin typeface="Times New Roman"/>
              </a:rPr>
              <a:t>тел вращения – </a:t>
            </a:r>
            <a:br>
              <a:rPr sz="4000"/>
            </a:br>
            <a:r>
              <a:rPr b="0" i="1" lang="en-US" sz="4000" spc="-1" strike="noStrike" u="sng">
                <a:solidFill>
                  <a:srgbClr val="e17171"/>
                </a:solidFill>
                <a:uFillTx/>
                <a:latin typeface="Times New Roman"/>
              </a:rPr>
              <a:t>бесконечное числ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7840" y="4921200"/>
            <a:ext cx="36100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dmin</cp:lastModifiedBy>
  <dcterms:modified xsi:type="dcterms:W3CDTF">2010-05-23T06:01:18Z</dcterms:modified>
  <cp:revision>2</cp:revision>
  <dc:subject/>
  <dc:title>PowerPoint Presentation</dc:title>
</cp:coreProperties>
</file>